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A2BF-18C0-4069-A37D-D17738031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F3C3-5E25-49F8-B54A-64719D7D3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F2F2-4304-4887-9C23-92EFC89E0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e with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D0B7-654D-487F-A349-42C24240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9D18-132C-410F-A119-EFCCA094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DFA1-B1C8-4807-8446-CAD919BB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show of h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ary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chool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office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01E8-D841-44B2-83FB-6BA7DBD1B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8268-68C6-44F9-9485-DF5ABBE5B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FDE1-4B85-440C-8388-6272C68B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F3B7-604C-4162-8938-5CD46060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ll fam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you to keep it in the back of your m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3AA1-11AD-4835-B9E3-230755E08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FC8F-C3A7-4765-80A0-20F8E1CA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Write down three words when you think of 21st Century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We would like to state all three words as you say them… Please say it, even if it has been stated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40"/>
                </a:solidFill>
                <a:latin typeface="Lucida Grande"/>
              </a:rPr>
              <a:t>As participants respond to this we put up a Wordle gra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Apple, AIM, AOL, Audacity, Animoto, Avatar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Bluetooth, Blogspot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CPU, Core, Classroom 2.0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Digg, Del.icio.us, Diigo, Dopplr, Disqus, Dabbleboard, DropBox, DropCard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xplorer, Emule Edu20, Edmodo, Edublogs, Elluminate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acebook, Firefox, Flickr, FriendFeed, FriendFeed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Google, Glogster, Gravatar, Goodreads, GetSatisfaction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= Hulu, HIT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= Iphone, Inspiration, Iterasi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Java, Javascript, Jott, Jing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K-lite codec, Kazaa, Kidspiration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Linux, LinkedIn, Lizzer, LMS/LCMS, LibraryThing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SN, Magmolia, MySpace, Mashable, MooURL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Napster, Ning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Office, OpenOffice, OpenID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lay Station, Plurk, pbWiki, Plaxo, Pandora, Ping.fm, PollDaddy, PayPal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= Quicktime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Rss, reQall, Retaggr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SecondLife, Seesmic, Skype, StumbleUpon, SlideShare, Studeous, Screencast, Scribblar, Soshiku, Shelfari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= Tags, Twitter, Tumblr, Technorati, TinyURL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= USB, Utterli, UStream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Vista, VoiceThread, Vi.sualize,Vimeo, Viddler, Vostu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= Wikipedia, Wikispace, Wordpress, Wordle, Webspiration, WiZiQ, WindowsLive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XP, Xorg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YouTube, Yammer, Yugma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Zuma, Zoho, Xing, Zillow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= e-Mail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y = IMs - AOL AIM, Windows Live Messenger, Yahoo IM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14D0-2C77-45A5-B663-EA26F8E4A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- talk about the formative/summative assignment.   Students really struggled with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6A4-E5B7-4876-A2EC-15F643C4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225-693C-4440-8BE7-C7CF829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782-C919-4E14-B32A-913969B6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BB1-1DE9-438C-9F57-5185FC73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110-C5B3-4C6F-A727-D308BBD9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D67-875C-4622-9631-800507F7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61E-DDFC-4312-AE7E-59762CB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528-D14A-48E7-8E70-8E552600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478-4692-47B8-89CC-B1691FAF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990-8D92-417C-AC42-6AC832DD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7DA-43D0-416A-85AB-A013546F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FFD-6799-43D7-B470-7354883E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WordArt 8"/>
          <p:cNvSpPr txBox="1"/>
          <p:nvPr/>
        </p:nvSpPr>
        <p:spPr>
          <a:xfrm>
            <a:off x="152280" y="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103285"/>
                  </a:solidFill>
                  <a:miter/>
                </a:ln>
                <a:solidFill>
                  <a:srgbClr val="1c55e3">
                    <a:alpha val="36000"/>
                  </a:srgbClr>
                </a:solidFill>
                <a:latin typeface="Arial Black"/>
              </a:rPr>
              <a:t>OAESA</a:t>
            </a:r>
            <a:endParaRPr b="0" lang="en-US" sz="2400" spc="1" strike="noStrike">
              <a:ln w="9360">
                <a:solidFill>
                  <a:srgbClr val="103285"/>
                </a:solidFill>
                <a:miter/>
              </a:ln>
              <a:solidFill>
                <a:srgbClr val="1c55e3">
                  <a:alpha val="36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28600" y="633888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21st Century Leaders:The World at your Fingert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FBF-CD24-4517-A974-95CBA330C1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qybUFnY7Y8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160020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OAESA 2010</a:t>
            </a:r>
            <a:br>
              <a:rPr sz="4400"/>
            </a:br>
            <a:r>
              <a:rPr b="0" i="1" lang="en-US" sz="3600" spc="-1" strike="noStrike">
                <a:solidFill>
                  <a:srgbClr val="800040"/>
                </a:solidFill>
                <a:latin typeface="Tahoma"/>
              </a:rPr>
              <a:t>Highly Effective Classrooms: </a:t>
            </a:r>
            <a:br>
              <a:rPr sz="3600"/>
            </a:br>
            <a:r>
              <a:rPr b="0" i="1" lang="en-US" sz="3600" spc="-1" strike="noStrike">
                <a:solidFill>
                  <a:srgbClr val="800040"/>
                </a:solidFill>
                <a:latin typeface="Tahoma"/>
              </a:rPr>
              <a:t>What Principals Should See in Every 21st Century Classroom</a:t>
            </a: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 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Moodle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09720" y="1752120"/>
            <a:ext cx="3505320" cy="43434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r Object-Oriented Dynamic Learnin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en-source course management system for e-lear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moodle.org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9" descr="Picture 1"/>
          <p:cNvPicPr/>
          <p:nvPr/>
        </p:nvPicPr>
        <p:blipFill>
          <a:blip r:embed="rId2"/>
          <a:stretch/>
        </p:blipFill>
        <p:spPr>
          <a:xfrm>
            <a:off x="228600" y="1905120"/>
            <a:ext cx="5105520" cy="396216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Wiki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09720" y="1752120"/>
            <a:ext cx="3505320" cy="43434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base of pages that visitors can edit using their own web brows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kipedia is an example of a very large Wik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wikispaces.com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8" descr="Picture 2"/>
          <p:cNvPicPr/>
          <p:nvPr/>
        </p:nvPicPr>
        <p:blipFill>
          <a:blip r:embed="rId2"/>
          <a:stretch/>
        </p:blipFill>
        <p:spPr>
          <a:xfrm>
            <a:off x="152280" y="1828800"/>
            <a:ext cx="5257800" cy="388620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Twitter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09720" y="1752120"/>
            <a:ext cx="3505320" cy="43434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s users continually informed of timely bits of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ts are text-based posts of up to 140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ing someone on Twitter means getting updates, or twe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twitter.com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Content Placeholder 5" descr="Screen shot 2010-05-28 at 7.13.33 PM.png"/>
          <p:cNvPicPr/>
          <p:nvPr/>
        </p:nvPicPr>
        <p:blipFill>
          <a:blip r:embed="rId2"/>
          <a:srcRect l="0" t="-342" r="0" b="-342"/>
          <a:stretch/>
        </p:blipFill>
        <p:spPr>
          <a:xfrm>
            <a:off x="228600" y="1752480"/>
            <a:ext cx="5164200" cy="419112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Blog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8840" y="1905120"/>
            <a:ext cx="3886200" cy="4419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contraction of the te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b lo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type of Website, usually maintained by an individual, that features regular commentaries on a topic, includes links to resources, and often embeds such materials as graphics or vide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blog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7" descr="Picture 1"/>
          <p:cNvPicPr/>
          <p:nvPr/>
        </p:nvPicPr>
        <p:blipFill>
          <a:blip r:embed="rId2"/>
          <a:stretch/>
        </p:blipFill>
        <p:spPr>
          <a:xfrm>
            <a:off x="228600" y="1905120"/>
            <a:ext cx="4800600" cy="396216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Ning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86200" cy="4419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platform for people to create their own social network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 converse on a specific topic through formal posts and build resources by embedding videos and linking articles and Web si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in conjunction with face to face discus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ning.com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8" descr="Picture 2"/>
          <p:cNvPicPr/>
          <p:nvPr/>
        </p:nvPicPr>
        <p:blipFill>
          <a:blip r:embed="rId2"/>
          <a:stretch/>
        </p:blipFill>
        <p:spPr>
          <a:xfrm>
            <a:off x="76320" y="1828800"/>
            <a:ext cx="5029200" cy="373392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Jing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86200" cy="4419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It is free software that adds visuals to online conversations. Users can create a narrated video or tutorial, and have opportunities for feedback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http://www.jingproject.com/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8" descr="Picture 1"/>
          <p:cNvPicPr/>
          <p:nvPr/>
        </p:nvPicPr>
        <p:blipFill>
          <a:blip r:embed="rId2"/>
          <a:stretch/>
        </p:blipFill>
        <p:spPr>
          <a:xfrm>
            <a:off x="152280" y="1905120"/>
            <a:ext cx="4800600" cy="358128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RSS Feed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86200" cy="4419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ree software that adds visuals to online conversations. Users can create a narrated video or tutorial, and have opportunities for feed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rssfeeds.com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8" descr="Picture 2"/>
          <p:cNvPicPr/>
          <p:nvPr/>
        </p:nvPicPr>
        <p:blipFill>
          <a:blip r:embed="rId2"/>
          <a:stretch/>
        </p:blipFill>
        <p:spPr>
          <a:xfrm>
            <a:off x="152280" y="1905120"/>
            <a:ext cx="4800600" cy="387324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Our Wiki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858000" cy="1828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Resources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6000" y="1828440"/>
            <a:ext cx="6400800" cy="47242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alk Through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46 Ways to Use a Word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http://clifmims.com/blog/archives/26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01 Free Learning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ttp://www.slideshare.net/zaid/101-free-learning-tools-presentation?src=emb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632484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21st Century Skills: </a:t>
            </a:r>
            <a:br>
              <a:rPr sz="4400"/>
            </a:b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How do we get there?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95480" y="3048120"/>
            <a:ext cx="5562720" cy="30477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outube.com/watch?v=8_ehGLqzBV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Who are we?  Who are you?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 Aaro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 of School Improvement, Greene E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nal Value-Added Specialist (RV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dentialed Battelle for Kids faculty me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IP Facilit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ge Instructor for Pre-service teac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anele Ho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 of Curriculum, Instruction, and PD, Preble E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nal Value-Added Specialist (RV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dentialed Battelle for Kids faculty me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IP Facilit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er Elementary 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Learning Targets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6553080" cy="35053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1st Century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Princip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ing Opportunities in the 21st Cen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OK…GO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Verdana"/>
                <a:hlinkClick r:id="rId2"/>
              </a:rPr>
              <a:t>http://www.youtube.com/watch?v=qybUFnY7Y8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800040"/>
                </a:solidFill>
                <a:latin typeface="Tahoma"/>
              </a:rPr>
              <a:t>What does a 21st Century student look like?</a:t>
            </a:r>
            <a:r>
              <a:rPr b="1" i="1" lang="en-US" sz="3200" spc="-1" strike="noStrike">
                <a:solidFill>
                  <a:srgbClr val="800040"/>
                </a:solidFill>
                <a:latin typeface="Tahoma"/>
              </a:rPr>
              <a:t>  </a:t>
            </a:r>
            <a:endParaRPr b="0" i="1" lang="en-US" sz="3200" spc="-1" strike="noStrike">
              <a:solidFill>
                <a:srgbClr val="800040"/>
              </a:solidFill>
              <a:latin typeface="Tahoma"/>
            </a:endParaRPr>
          </a:p>
        </p:txBody>
      </p:sp>
      <p:pic>
        <p:nvPicPr>
          <p:cNvPr id="98" name="Picture 6" descr="Emma and Dad3"/>
          <p:cNvPicPr/>
          <p:nvPr/>
        </p:nvPicPr>
        <p:blipFill>
          <a:blip r:embed="rId2"/>
          <a:srcRect l="0" t="9090" r="7955" b="13923"/>
          <a:stretch/>
        </p:blipFill>
        <p:spPr>
          <a:xfrm>
            <a:off x="762120" y="1720800"/>
            <a:ext cx="7315200" cy="4589640"/>
          </a:xfrm>
          <a:prstGeom prst="rect">
            <a:avLst/>
          </a:prstGeom>
          <a:ln w="38160">
            <a:solidFill>
              <a:srgbClr val="800040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4080" cy="609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40"/>
                </a:solidFill>
                <a:latin typeface="Tahoma"/>
              </a:rPr>
              <a:t>Classroom Instruction That Works</a:t>
            </a:r>
            <a:endParaRPr b="0" i="1" lang="en-US" sz="3600" spc="-1" strike="noStrike">
              <a:solidFill>
                <a:srgbClr val="80004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922320"/>
          <a:ext cx="9144000" cy="4800600"/>
        </p:xfrm>
        <a:graphic>
          <a:graphicData uri="http://schemas.openxmlformats.org/drawingml/2006/table">
            <a:tbl>
              <a:tblPr/>
              <a:tblGrid>
                <a:gridCol w="6748560"/>
                <a:gridCol w="2395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05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ile G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0516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Identifying similarities and dif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Summarizing and note ta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Reinforcing effort and providing recog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Homework and prac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Nonlinguistic represent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Cooperative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Setting objectives and providing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Generating and testing hypo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Questions, cues, and advance organiz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259092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40"/>
                </a:solidFill>
                <a:latin typeface="Tahoma"/>
              </a:rPr>
              <a:t>What does a 21st Century classroom look like?</a:t>
            </a:r>
            <a:endParaRPr b="0" i="1" lang="en-US" sz="3600" spc="-1" strike="noStrike">
              <a:solidFill>
                <a:srgbClr val="800040"/>
              </a:solidFill>
              <a:latin typeface="Tahoma"/>
            </a:endParaRPr>
          </a:p>
        </p:txBody>
      </p:sp>
      <p:pic>
        <p:nvPicPr>
          <p:cNvPr id="102" name="Picture 5" descr="Picture 2"/>
          <p:cNvPicPr/>
          <p:nvPr/>
        </p:nvPicPr>
        <p:blipFill>
          <a:blip r:embed="rId2"/>
          <a:stretch/>
        </p:blipFill>
        <p:spPr>
          <a:xfrm>
            <a:off x="3708360" y="685800"/>
            <a:ext cx="4691160" cy="5638680"/>
          </a:xfrm>
          <a:prstGeom prst="rect">
            <a:avLst/>
          </a:prstGeom>
          <a:ln w="3816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sp>
        <p:nvSpPr>
          <p:cNvPr id="103" name="Text Box 6"/>
          <p:cNvSpPr/>
          <p:nvPr/>
        </p:nvSpPr>
        <p:spPr>
          <a:xfrm>
            <a:off x="6248520" y="6477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b2089"/>
                </a:solidFill>
                <a:uFillTx/>
                <a:latin typeface="Arial"/>
              </a:rPr>
              <a:t>Image source by Amit Agarw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2"/>
          <p:cNvGrpSpPr/>
          <p:nvPr/>
        </p:nvGrpSpPr>
        <p:grpSpPr>
          <a:xfrm>
            <a:off x="2286000" y="838080"/>
            <a:ext cx="6477120" cy="5286600"/>
            <a:chOff x="2286000" y="838080"/>
            <a:chExt cx="6477120" cy="5286600"/>
          </a:xfrm>
        </p:grpSpPr>
        <p:pic>
          <p:nvPicPr>
            <p:cNvPr id="105" name="Picture 9" descr="Picture 3"/>
            <p:cNvPicPr/>
            <p:nvPr/>
          </p:nvPicPr>
          <p:blipFill>
            <a:blip r:embed="rId2"/>
            <a:stretch/>
          </p:blipFill>
          <p:spPr>
            <a:xfrm>
              <a:off x="2286000" y="838080"/>
              <a:ext cx="6477120" cy="5286600"/>
            </a:xfrm>
            <a:prstGeom prst="rect">
              <a:avLst/>
            </a:prstGeom>
            <a:ln w="38160">
              <a:solidFill>
                <a:srgbClr val="800040"/>
              </a:solidFill>
              <a:miter/>
            </a:ln>
          </p:spPr>
        </p:pic>
        <p:sp>
          <p:nvSpPr>
            <p:cNvPr id="106" name="Rectangle 11"/>
            <p:cNvSpPr/>
            <p:nvPr/>
          </p:nvSpPr>
          <p:spPr>
            <a:xfrm>
              <a:off x="7620120" y="5334120"/>
              <a:ext cx="10666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Web 2.0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generation of Web services and applications, to collaborate, share and cre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al networking, blogs, wikis, Nings, Moodles, RSS feed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go2web20.net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8" descr="Picture 4"/>
          <p:cNvPicPr/>
          <p:nvPr/>
        </p:nvPicPr>
        <p:blipFill>
          <a:blip r:embed="rId2"/>
          <a:stretch/>
        </p:blipFill>
        <p:spPr>
          <a:xfrm>
            <a:off x="533520" y="1676520"/>
            <a:ext cx="3751200" cy="449568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0:34:58Z</dcterms:created>
  <dc:creator>GCESC</dc:creator>
  <dc:description/>
  <dc:language>en-US</dc:language>
  <cp:lastModifiedBy>Ann Aaronson</cp:lastModifiedBy>
  <dcterms:modified xsi:type="dcterms:W3CDTF">2010-05-31T21:31:22Z</dcterms:modified>
  <cp:revision>40</cp:revision>
  <dc:subject/>
  <dc:title>You made it to DAY 2 - Science  </dc:title>
</cp:coreProperties>
</file>